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1B90-A047-4AE0-A15E-6C06BD893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B80C-DA19-41BA-87AE-482E425C1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s://i.ytimg.com/vi/xRYE3dccklg/hqdefault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3FE6-3651-49E4-AEC5-B213C0DE8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0E4A-77CA-4227-A9D7-8A6E778C1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7EFD-B683-448D-86E8-8CCDD701D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psychology.wikia.com/wiki/Chromosomal_translocation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F65D-634B-4B0C-8786-DF7F741A0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ghr.nlm.nih.gov/handbook/illustrations/inversion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1006-5FE7-4F69-A592-AC44ACE2E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0660-1C61-4236-BBB8-0DDB7738B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AAC5-9C31-4A2C-B1CB-50C8F7F3F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yorku.ca/eye/spectru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2FF3-9DB9-48F4-99D7-7DF7A6BB7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E:  UV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: Xrays, gamma rays, radioactive dec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2FF0-2D7C-4798-97CD-FE21A92AA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B14D-AE8D-43B4-BEE6-92FF3475C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:  http://www.cancer.org/cancer/cancercauses/geneticsandcancer/oncogenesandtumorsuppressorgenes/oncogenes-tumor-suppressor-genes-and-cancer-mutations-and-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A21B-DAAE-488D-B17B-B9195FFB7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www.doctortipster.com/wp-content/uploads/2012/02/Mutat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1F02-8191-4BAE-83A8-A42F53208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huffingtonpost.ca/2011/09/27/cigarette-packaging-march_n_98290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1C3D-124A-4DB3-9915-AB036BB9C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moke-free.ca/warnings/canada-warning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0AC5-28E1-4CDE-92A4-E39EE3FE7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A2E6-2687-4076-932B-E276397E4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80E1-7ACE-4419-AF56-5C99D7370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5F1D-14A5-4D86-BAA3-3D7FD0A72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avonapbio.pbworks.com/w/page/9429271/Ch-17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C5F1-F212-4027-BF5D-CC40885D1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3386-18CA-49E6-8D5C-6B63797A0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B3F0-85A3-4857-96E7-BA952BF37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1.nicerweb.com/Locked/media/ch17/mutation-substitu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C599-5EEF-4294-94D8-3E3648937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ptcbio.com/3.1.1_genetic_disorders.aspx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aluren is a drug that is being tested for use on patients with nonsense mutation-causing genetic disorders such as some types of cystic fibrosis and some types of hemophil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606C-4645-4628-B280-71A3E37EC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ghr.nlm.nih.gov/handbook/illustrations/frame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FE40-CBD8-4AE3-B841-350FA90F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35EA-CA62-421C-9825-3D4C0533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315C-AEEC-48C7-9F11-40C9B5CB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6511-027B-4EC0-8E79-E7561C15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5A45-CB7C-4760-BBDF-56E20FC8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CA8D-D001-4C83-9544-7DA13EE6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277E-5F29-47E8-957C-714A3336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7A5-2626-41EA-8EF2-1D8EF05D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F893-EDFE-46DD-8BCE-F7E7E8F9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3D16-DD4D-4257-BB68-16B9EFD6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368C-4F63-46E1-8266-54CFB66D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9A05-7C6B-460A-A6A5-38BC9F96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C03D-170B-460B-8863-DEE27ABA9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richarddawkins.net/2013/11/50000-generations-of-bacteria-prove-that-evolution-never-stops/" TargetMode="External"/><Relationship Id="rId2" Type="http://schemas.openxmlformats.org/officeDocument/2006/relationships/hyperlink" Target="https://www.newscientist.com/article/dn14094-bacteria-make-major-evolutionary-shift-in-the-lab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9960" y="243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tic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-Scale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 multiple nucleotides, entire genes, or whole regions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plification (gene 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ion of all or part of the gene for the protein dystrophin results in types of muscular dystr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-Scale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oc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he movement of entire genes or DNA sequences from one chromosome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posable elements (transposons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DNA sequences that move freely and can caus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nucleotide repeat expa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Translocation-4-20"/>
          <p:cNvPicPr/>
          <p:nvPr/>
        </p:nvPicPr>
        <p:blipFill>
          <a:blip r:embed="rId1"/>
          <a:stretch/>
        </p:blipFill>
        <p:spPr>
          <a:xfrm>
            <a:off x="1928880" y="1981080"/>
            <a:ext cx="52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inversion"/>
          <p:cNvPicPr/>
          <p:nvPr/>
        </p:nvPicPr>
        <p:blipFill>
          <a:blip r:embed="rId1"/>
          <a:stretch/>
        </p:blipFill>
        <p:spPr>
          <a:xfrm>
            <a:off x="2665440" y="1981080"/>
            <a:ext cx="381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ntane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be caused by errors in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ced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aused by environmental agent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age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Muta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monoxide, nitrous acid, ethidium bromid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modify nucleotides so that they resemble other base pairs;  can mimic a DNA nucleotide, inserting itself into the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spectrum"/>
          <p:cNvPicPr/>
          <p:nvPr/>
        </p:nvPicPr>
        <p:blipFill>
          <a:blip r:embed="rId1"/>
          <a:stretch/>
        </p:blipFill>
        <p:spPr>
          <a:xfrm>
            <a:off x="957240" y="1981080"/>
            <a:ext cx="7229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E radiation can cause bonds to form between adjacent nucleotides (nonhomologous end-joi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E radiation (ionizing radiation) can break bonds within DNA, causing rearrangement or dele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cial mu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 mutations (silent mut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 &amp;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hat regulate type of cell &amp; how often it divides can be mutated to beco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co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umor suppressor ge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normal genes that slow down cell division, repair DNA mistakes, regulate cell death;  mutations in these genes can cause cancer and are often inher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mutations are changes in the DNA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some causes of genetic mut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Content Placeholder 2" descr="Mutation.jpg"/>
          <p:cNvPicPr/>
          <p:nvPr/>
        </p:nvPicPr>
        <p:blipFill>
          <a:blip r:embed="rId1"/>
          <a:srcRect l="17126" t="0" r="17126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ning: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29" descr="r-CIGARETTE-PACKAGING-CANADA-large570"/>
          <p:cNvPicPr/>
          <p:nvPr/>
        </p:nvPicPr>
        <p:blipFill>
          <a:blip r:embed="rId1"/>
          <a:stretch/>
        </p:blipFill>
        <p:spPr>
          <a:xfrm>
            <a:off x="685800" y="2417760"/>
            <a:ext cx="77724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ning: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large"/>
          <p:cNvPicPr/>
          <p:nvPr/>
        </p:nvPicPr>
        <p:blipFill>
          <a:blip r:embed="rId1"/>
          <a:stretch/>
        </p:blipFill>
        <p:spPr>
          <a:xfrm>
            <a:off x="685800" y="2633760"/>
            <a:ext cx="77724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 &amp;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learned in Grade 11 that mutations cause evolution…that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beneficial muta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ncrease the survival of a species &amp;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rmful muta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the oppo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 fascinating 27-year experiment that PROVES mutations cause evolu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 &amp;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ard Dawkins wrote about Richard Lenski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experiments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richarddawkins.net/2013/11/50000-generations-of-bacteria-prove-that-evolution-never-stop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topic, bu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is artic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hort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-Scale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ingle base p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ions of small groups of base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oint_mutation"/>
          <p:cNvPicPr/>
          <p:nvPr/>
        </p:nvPicPr>
        <p:blipFill>
          <a:blip r:embed="rId1"/>
          <a:stretch/>
        </p:blipFill>
        <p:spPr>
          <a:xfrm>
            <a:off x="804960" y="1981080"/>
            <a:ext cx="7532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nucleotide polymorphisms are differences between individuals caused by point mu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in non-coding DNA, and sometimes used in identifying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ent mut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ense mu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sense mu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shift mu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17_23-PointMutationTypes"/>
          <p:cNvPicPr/>
          <p:nvPr/>
        </p:nvPicPr>
        <p:blipFill>
          <a:blip r:embed="rId1"/>
          <a:stretch/>
        </p:blipFill>
        <p:spPr>
          <a:xfrm>
            <a:off x="2679840" y="609480"/>
            <a:ext cx="3784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sense M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tc_technology_white-with-l"/>
          <p:cNvPicPr/>
          <p:nvPr/>
        </p:nvPicPr>
        <p:blipFill>
          <a:blip r:embed="rId1"/>
          <a:stretch/>
        </p:blipFill>
        <p:spPr>
          <a:xfrm>
            <a:off x="1481040" y="1981080"/>
            <a:ext cx="6181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frameshift"/>
          <p:cNvPicPr/>
          <p:nvPr/>
        </p:nvPicPr>
        <p:blipFill>
          <a:blip r:embed="rId1"/>
          <a:stretch/>
        </p:blipFill>
        <p:spPr>
          <a:xfrm>
            <a:off x="849240" y="609480"/>
            <a:ext cx="7445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0:55:40Z</dcterms:created>
  <dc:creator>rubina khan</dc:creator>
  <dc:description/>
  <dc:language>en-US</dc:language>
  <cp:lastModifiedBy>rubina khan</cp:lastModifiedBy>
  <dcterms:modified xsi:type="dcterms:W3CDTF">2017-04-06T13:55:57Z</dcterms:modified>
  <cp:revision>106</cp:revision>
  <dc:subject/>
  <dc:title>Protein Synthesis</dc:title>
</cp:coreProperties>
</file>